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EA35-9021-49F5-AA09-AB9C6BCB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9DA1-B3E7-439C-BB4D-09039EB3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3D5A7-BAC0-481F-BBF0-BE963304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FAA7D-3C41-4576-B78A-AF434FCC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38A24-DED6-4D70-8AA6-E592F321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6FA8F-BF6E-4BAB-99FD-CCF4DE99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245C5-C469-4C52-9F3E-C464DDEA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B71F4-ADB7-43CD-805D-1C7C6539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2FE20-31DB-4BB6-987F-7DE5B816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205CE-7D0F-4E13-85F8-EB199E99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E9D2A-9626-4EE0-ABF8-D9F8B96A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92321-4BEE-455F-991A-565565AA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1033-8D9B-4712-8A94-4A4888F0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BE1CD-AC56-4196-A70E-AC92AB31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BEDBC-7C68-4036-820C-45B29D53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57A5D-8048-43E8-97D6-A970EE15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E4BEC-4D0F-4D02-960F-B1270410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5F0A0-D46A-471A-9AD6-6003AE87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1D124-8B22-4B57-80FD-C5B81062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33EE9-1B9D-4320-A428-72C017B7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6EFAD-7FB0-46A8-94A1-AE93E588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46342-E078-49D1-A427-A3F78ED4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8348E-3E01-48D8-9CF4-BB3E10A3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F5A5-3EC3-4F7F-B317-FA42AAFE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13CA4-F973-4D0A-A744-E7863506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80253-8FF3-4E0C-B8DF-681B927B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ECCE1-CC48-4282-A17E-6457A51F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D302F-1520-4314-81E2-75318E38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C505C-738D-4C8A-920B-AFDBA558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77938-FEED-4EF7-995E-5F6725A8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EE3DC-FCEE-42B4-BDDE-98822AF5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728B4-EFF8-4A42-ABA0-2F3A96D7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FE845-FA0B-433C-9C2B-85F126C2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F7C29-478B-44B4-8048-7EBE8DE3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EAF3-D7D0-4CCB-B576-3F6CFA8C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035A6-7C1E-4856-9142-984F8A04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38B2E-811F-4862-893F-AA8687EC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55B57-D978-4FDB-B777-AD12A601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03E2E-A9DE-499F-9325-A4A25471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FB512-2DF9-40F8-9F8F-79C1D0FE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90681-8580-4683-8EA4-47DBFDB0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DEFC4-F161-41A6-9733-A3DAF39C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4A720-C9C3-42EA-AD2E-FE1A8EDA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037EC-997F-4CD0-814B-0598CC0E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1FE03-7B91-4A61-93D9-5143A5A5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4BE6-14AC-41D8-8A26-38A264FA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258B5-0117-43BD-BC0C-B32C4E34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94700-264C-412B-BEB5-A7F59387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FE404-718F-45EB-B7EA-82E57DC0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616B2-E472-4C03-A030-C90A1E04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BAF05-F465-41DD-840F-CD5AABD6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52CBCD-AB5C-461B-96CD-EEA504C6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4E9741-D85D-47FF-8545-5611D9EC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3BF9A-73D0-4778-B4C1-7533E165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13C3A-1CD6-4EEE-92BC-2585AF2C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1D2526-F2C2-4DD3-BE53-E568A089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585F-85CC-411B-9E38-77D8D367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40583E-B868-439D-BE54-0C163DBD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316DD6-5EC0-40D0-8ECD-1D497C60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3EFACF-DBBA-4012-8D76-AF8778D2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AE8D4B-1AFC-4808-8550-E6E98C6B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508044-E010-466B-B89D-0FB90E77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4BC9CD-0CB5-45D7-8CAB-0D18CB61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7DFB37-9966-4A7D-9A99-DD29650E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6A38E6-5BC9-423C-B876-64BC2D14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94D3FC-C47C-4177-8E1D-F06A3FF0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A00E3D-335B-4636-8814-5ACC76C8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7F7D-1104-42DF-AA7A-A2EB8B88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E5509E-1774-40B5-BA36-52B904DB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7CB6D1-C71C-4406-8B22-81106124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BE73D4-126A-4181-81AC-89171E54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9129FE-D543-4700-86D0-E1295184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FCBDAE-5EE8-4C41-9F5C-49E516B6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56B48A-E717-43BA-A904-FC4F5BDD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20C45D-E790-4162-BBAD-5B7616BC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32B48D-265E-4D13-8B51-432A6AEB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DB0F50-C7A9-4073-B125-E2809F35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275343-40BB-413B-B536-CB7B48FA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CF62-5190-4DDC-AD86-2EB21767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26AB24-1E8A-45F6-B9B0-313F81C8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6D110C-DC07-4C48-8424-B969C260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298295-7E1A-4A38-8522-064F80CA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04B940-DDCA-4EB4-ACF3-ADFEB8C9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09CF33-C099-4A80-8768-9AD0C382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3F6C0E-6052-4B1B-84DC-B7F28E2A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2503E2-12D5-4F24-8CAB-F87FDE04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7D21CC-DFA1-4BAC-9292-D15617E4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1F9B50-FD8B-40BC-B301-56923859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C22931-C3B9-40EE-94F1-DCE12B30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6D75-B58E-47D6-A011-639EFE8E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FDC6B3-F47B-4322-A234-62D83D56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6EE304-227B-438F-8B29-9141EE46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A5866B-6402-40F8-9F23-004DD5E5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7A34BD-108C-4B12-BBEF-1EEFC140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283BD2-9A3C-41A4-BFA9-1397BF53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FAEB14-F2AE-4D18-AEBA-8CA3632A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235BE4-E618-46D8-B336-552628A7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0F9398-A070-4F89-A114-95C2CA53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C47377-69C7-4DFA-8F03-4446BFA9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567E91-CF7C-41B6-A19B-0A702015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F1A3-802D-405F-8D15-1CFD2A18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CAED6B-93EB-4DEC-AED1-EA74D88E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61731D-B79A-4B04-B278-F1093D2B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520A3B-716D-4279-9BC3-A387F33D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EE055E-0A3A-441F-B584-5DA0D4E2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80D7CF-2980-4D6D-A383-0B5068C6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BE658D-1C4F-4CAA-A29C-F2452BD8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7E07FC-CD54-4C1E-A51A-3EFA0205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EB3449-3675-4E1F-BDFD-BBB6996F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B565F0-3485-477C-97B7-D5F527EC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39D36A-D01C-4D6F-831F-40BBFA5B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4E75-615C-432E-9CAB-947FFA14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069C-9E2A-48DF-93A9-69271A0F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97DC9C-FBAF-4A6D-B250-4371BFC5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980670-417A-4CA3-A7F2-CC4EA9BB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3F2240-7FA8-4296-AE7B-0F3FA628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F1A8FA-68A0-4898-82F4-309D5A64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C405A6-CA51-4732-AC9D-468EEB88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773B73-3B08-45EC-BB9A-EA448417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BDFBED-76BF-48E1-8B2F-B4D197C6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49CAAB-3C7E-447D-845F-8E7F2AA9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B292AB-59D5-4FDA-9A6F-8A8C11EA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E80DA0-DACC-46B7-AB4B-2F1873E9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8AD7-C195-4288-ADA3-66DDD9B2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70CDF6-3F93-4B5C-A287-036F440F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569C4B-3867-4076-96A2-5E5B1478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00A303-7827-43F9-ACD1-776B8F9B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2E0F99-7CBC-485A-9F24-CCE1D334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DAE5D9-FEBE-4B8E-9BE2-7953BA87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C85370-D651-424E-ACB2-CBD1F88D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1F8B57-660B-495B-BEE4-6B78A44E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6DF30C-78DE-4512-89B9-F53AA000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07D37B-8D6D-4144-9973-6E1C57DD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F85CBD-77E6-44A4-9B0F-98D0C1BD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C23D-3ECE-4CB0-B775-0971DA7B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5B7342-621F-44CD-9C5A-4A37D1C3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36F383-B4EA-4401-B2F3-6625FC21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340AF9-21E2-4672-987D-E49D6D32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56D1D9-83BA-49A1-B342-A91AEC1B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2B8470-F440-40C7-8476-B18964EB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5AB2C0-B2E6-43A5-84AF-6BB7C8C2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2C7FF9-1525-460B-A5ED-207FA192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F28E32-0FF5-4F88-9697-F3865AC9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B924F3-961F-4012-8628-32FAAE01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597D3F-4414-4DC0-95E5-5EB735DE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07F2-B71D-40FD-9339-3E51D2C2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DA3434-C0EC-4700-A8D6-11A1D36A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A3E205-E03D-4B1C-8A8D-B893DF2A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158EB6-52F1-4143-A93B-B6DE7E25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C6EE60-D78F-4D2A-8B84-C6576AA1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5A6946-DF60-4A07-92EE-94D20F8A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1B7AC4-EF3F-4EA6-8275-F7E2DC87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6B0752-ECDB-43A1-96D2-857A136F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55E218-F4B2-4D0F-8E54-D25F5A28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698F99-3D31-4B62-B3B3-F9D22061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9AEBF5-B129-4259-BD0C-4121661D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0BD7-2BA7-4277-A91E-B69D4C59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6F3A84-4C0D-4D52-A6B6-71DB8121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2EC015-3FD8-43A0-8071-D0D1B2E4E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1F3B2D-F16D-4DC4-BB13-3E343FCC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FB43F7-F696-490F-A0BF-4C46754F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7F154F-2D6A-4420-ACB7-088BD8C7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E9F1B3-8B4D-49C2-8599-72B729F5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FDEDF9-8DEF-4828-9FF9-31A93AB5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7F2AD8-EE23-4BEC-8BB3-6AE9153A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0793E4-2F59-4DA4-AC42-9CBD3C34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E1AB39-8EC9-43F4-8237-C459F4EC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18525-B3A1-4A8E-AEBB-DCBCD90A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06BDED-B5C6-47FE-A40A-B183612E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2FFAE2-64C2-4516-8136-2698323B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B8800A-28C9-4C18-9F6D-6B23EEB9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99BEBE-A90D-452D-9E80-281C2B6D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B22508-62AE-49A9-AC41-EFC5B40D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5CA81F-C9C5-42E9-9AFD-6AAB95FE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D3F3E3-F992-4D91-9663-E5929E92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2C0815-8EA5-4732-A03E-98187C43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6237E5-90E6-4C27-BEFA-CACD931A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F69515-FFBE-4CD2-B018-BE56B462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67F7F-4C94-4330-A1CE-0A2CFA23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5203E8-7987-4B10-BBBE-7A078327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6A463C-FA79-4604-BBA0-09EFB2EC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2ECB8E-413C-457D-A69F-49C3B4A7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3DAFBD-8CB7-4C6D-AE93-F4C88937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3B32ED-D04C-49B0-A73E-4B79B081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CDA5F7-B656-4FA6-BD7E-5D61E2AB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3E473D-D534-43AC-A53B-2544EB5E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41270A-B525-4A81-B001-D818AC47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CD0C79-BF96-4041-B553-E8AC976F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BDD089-105E-49D9-80AF-F943613A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52BF2-A204-4ACC-AECF-023B9C68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D3E94B-B667-40E3-A30E-DBCDAD15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D20CB8-18AE-4BD3-81EE-F2D7FF5C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2C0811-91CE-488D-8CD0-109C27C7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7A51C1-8716-4529-8522-F2F14489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8ADA06-352F-432F-8A4E-31485ACA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D1D58E-EAB0-43D5-91B8-B40DD4AB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4794EB-566C-416E-8616-58C28841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916128-970D-4911-BE79-CC91949C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21CF04-909A-4003-9AEF-9DBE2AB4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D30A36-E41A-48D8-A08F-F2A2857B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5EBE7-9889-42B6-8AEB-80E66BF0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D87350-CAE2-435D-AB0B-F048F8BC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5A2B35-EE9D-469C-A98F-D27635F2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61053C-FCEA-4F55-ADAA-6A586FA5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4FBE1F-D877-423B-9DE9-32204E13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6C2C6D-2B8E-4011-BD51-101DDE07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CC7E8A-736A-40B7-8352-C87AE6B8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716512-291F-42EB-8CB4-1C2D642D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1E4EEA-81A8-46BF-95BB-6673BE7B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CBFA19-5AF9-4E41-935A-FB74EF6E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79BF6D-7099-456C-8CB2-482AD556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DA810-E5D3-440F-8201-DF1276C1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34BC13-7AEB-486F-8CC5-152F137C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4E5B6C-62E0-4EFE-B6F7-25A0D916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5EA9DE-AB9E-4816-BB8C-15546456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69998C-FC5E-4B49-A659-952784C7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38CAC5-F311-4FC9-89FB-241C9904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C4F284-EB4B-4A93-BDDD-57A2AB03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F92F6E-A21A-4DC6-97F2-C73DF3EC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39AB69-F2A5-440B-B9F5-CBC5B74A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F8D3DE-E681-4D1C-B5E0-57B883BF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7F5CBD-CA8D-4C68-B7FD-E63FC200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5507-E157-4892-ACC5-2CDE4BD3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2ECD0-F6F6-4D9C-825F-F375E74C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FA0E93-80CC-4C7E-B86D-9DA46B25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76F790-E65F-453C-8D5D-4829B611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D9BC3E-CED9-4A96-B411-D2BBF2B0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06CCC4-AB4B-40F6-A95D-B10A13C9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A85ACA-E57D-4441-A26E-0CDFF5FB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1D9549-55DC-41B7-B287-A726AB49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D2CFDA-E2C8-4F41-B4CB-DEE0D862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391491-64A0-475C-B4DE-36350AF2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8422700-9B1B-4EA9-81F2-8F7B0B4A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813BCE-14B7-4AD4-8CA6-3E854C43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72A42-4212-477A-987A-CDE48238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12FEF0-D254-493E-9512-D8EC0D0C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80FA4C-A8D4-468E-A4F8-D14433AB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BA19DD-7DF4-4D4A-A29C-147547AB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191F6B-09C6-4629-ABEB-F4762297E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662F8F-44DC-408D-80DE-8A675DEE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129510-3291-478E-8A62-CFB904D3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DBBFCE-B54A-4ED3-89B8-415CD932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036D5D-B72E-4461-BA5E-F2AD352B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9AACE9-332C-4721-B143-5F61EF30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23DC8F-E2FB-4098-A82C-0B6D5E45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DE2CC-4B02-411E-8737-13F915F7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31C9E1-C178-4C59-BC93-5D08409B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8693B9-0BAF-45CF-AB2C-F8836CAC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D60B24-6A04-4D80-BFFC-7B76F36D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02E57D-FDC2-49A4-898D-48163703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EB047A-D107-428F-88DC-24EFA1ED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4D3752-6EF5-459F-B80A-284BB000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91FDCB-3B92-403A-9A4B-F7F40E04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4D301E-D449-4764-A88F-851A75DE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4CF387-9065-47D8-B384-178DC83D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1B36EB2-3A4F-4054-AA6D-44A415D8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A70F7-C323-4C11-B1EC-F621DCFB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6C222C-5D3B-4AEE-BBA2-D11BE447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FFEC82-F63B-40EA-A5D1-952D5EBE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1E94E8-75D7-47B4-9EDA-827B3044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B5D668-BA4E-47EB-B971-B9CD9BB1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0006CB-8AA7-4FBD-8F55-0D9ED049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9BE4EC-200A-4CC7-B040-57854CE3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4E5263-8A9D-494E-9B07-3F758A0B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DE6045-9C11-4560-9A10-0EAD9F18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1CC2DB-0E9C-4CB7-BAE2-C50254AD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FC1D5F-4612-40BD-B5A1-213D9944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D8155-37E4-4BB6-BCA2-B3B6105C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556F0B2-5A19-40E1-A87A-B9F30A78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1007DC-555D-414B-B756-44F9128A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14A83F-1887-4360-B83E-587B5A50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4CF3FC-1A6E-4BA2-80A2-AE5A71A2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F07F4A-57E3-4115-8124-6230CE1A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4A535F-958F-436A-9CAD-514BADBD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FD5E0F-45CB-4F8A-8F4D-AD03FEB1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125DB0-F596-47BB-B46A-89BAEBFA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25EA02-6CEC-4850-873F-55DC8453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9B7495-DB0E-40AF-AE7E-34558FF8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0F01F-A95A-4525-A1CD-2A50F222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30E21A8-0C44-43E1-B0CB-457319B3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9947B5-4764-4D58-8FE3-B8DE68F2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EB49AF-E5D1-42E8-8771-6D772993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EF6C9D-3E75-4BFC-BF07-BF0BD287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DC5E8E-54A3-4F52-8300-107B9EFD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C15B87-AC42-46D6-8616-9D9A99F6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18A9F2-A1FE-4492-9040-65C9AB0D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699B4F-5DB8-4476-A3BF-7D010885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45C598-6D4B-4AF2-A863-909595FF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5657C5F-BD9F-4DAA-9297-48CB9049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59C77-7F30-48F7-891B-81896F08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ACD4E7-4F2D-4933-B0ED-5CB9CE0A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7777E4-06CB-413C-89EB-6CDC056F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6AE8E4-DDE4-4799-A579-029780A4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61E9FFD-7ECE-47BF-BD44-776C5274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99B0C6E-74CA-4E75-A479-9E014F75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5B1B1F0-562C-495F-B674-1EDEE90D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15EFC78-EA15-4D7B-9576-F2EBAE24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89C97A-6096-4A84-947A-F580CFD6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ED111D-C916-489D-BA09-6AE49C4D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AC593B-FC75-4CEF-BB99-FD46D490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82B24-64F6-4BBD-A484-32094DCF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12A28DE-B6AD-43D6-9D08-6057645F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50CD966-354A-448B-A524-F41C27A3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7BC167-49A0-413C-B00E-88692A38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3D266-7C83-4249-8982-8EC6FC67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BF6B6-3AC9-4C4B-9E84-4518DBF3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2B6E-8E00-417E-8019-80636BB7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72F52-70EA-4CC1-B714-A79C963D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06D98-4F65-4810-AC09-09E947DF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71DB2-BDE4-44B2-BFC3-07BCE808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CB2A5-9471-4AD0-B16D-4C493EC9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0DB8B-D123-4CFA-BE24-35464DE4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02FF6-6972-4AD1-B506-209E3A61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AD7FC-1A00-4AB6-859A-85D31BBF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B2C81-B61E-4DF9-B0A8-BC9C4581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599F4-EDB2-4F90-A945-5D031338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ED606-361B-4AFF-BC10-3DCAD28D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99AA-644F-4E91-AEA0-706537A0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BAEAD-30C3-42F4-AF86-5E123BAF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808B2-8BE3-4398-A3D6-380BDF2A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D0BC0-CB37-46C4-BD1C-97F3F4DF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E3D69-DE70-4288-98EE-8069C432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5BD22-9713-4E5E-9738-DBCB28D2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D47BF-1CC3-4B75-8F7B-4F3DA26F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C932B-E04B-4B06-AC58-26CCFEC1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5D52F-D790-4DA9-A90B-F0309AAC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CFDB2-0DCD-499B-B471-1224F5C1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1BD59-E297-4FF8-AB57-7D65A6ED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660D-385A-43CC-9944-01CEE5D4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BD165-625D-4E0D-955A-D0864937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97D16-42A0-4B2B-A049-E6991551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4F996-8949-4930-89C3-0B306DA8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95FD7-358C-4C99-9731-9281B4AD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FEFEB-BD20-4911-9C5E-85A663FF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3B17C-0783-4BE1-B7E4-ABED1275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46432-B802-48A2-ADCE-3C0B8C13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6AE4F-D281-4416-82B7-687B242E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48A18-8236-460B-A139-7B388D63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54CFF-9A43-4598-BA40-13857667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8E90-3A5F-4D1D-AE48-09BE51C4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6C468-7BF1-474D-A535-266683E7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B60A4-D5EE-4A14-94ED-4EBE17A8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3B4A0-30CB-4E02-85E2-7DB490B1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825B8-C567-49A9-946E-FC3E3E30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2B7D6-8EF3-41C8-A8E7-3421F1ED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9C59B-313A-46F6-BC55-0351434E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BE894-64C5-407A-8094-5589D23F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8CF98-ED4C-4680-8118-A17F9A85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E1E40-9D83-4795-8B42-05248B42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B04A3-A97C-4D53-8D30-42CD9F41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84FB-2393-442A-9BFA-7854C54E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F229E-7A0F-45F0-A44F-684302E7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3FFC7-013C-4118-8E4B-4695CACC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80699-9406-467B-8F48-6552802E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D98E1-9ED0-499E-9EDC-1BD46113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81812-4A5B-4A5C-9F25-E2434224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8613A-F13C-4D8C-A051-ECF3609C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4CD84-A3F3-4B2B-8230-BFDFCAE7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E59E2-E182-4CFB-9FEC-AA1C96A9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0049F-4327-4E5B-AF84-6253BE96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EAFE9-C56C-4D33-9F4A-63E7CA02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F28B-BA93-400C-8670-082FD680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5DE27-198C-4870-A159-355D0F08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188AE-C14F-43C0-A38A-FCFE47C5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4A2AE-AAED-42B1-BBAC-4E66972E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93FC2-F137-417C-B0AB-E6A2FCEE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3050C-F75D-41F6-8A74-E822097F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D5877-C633-4D46-B6C3-06B8E007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0AA52-3FAA-4C67-AA82-5AC4C54AC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BB0AA-1A7B-4884-94D3-004E6EE0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367F4-CAB1-4051-8917-A9D3C841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A2ADB-2AFD-47AA-B5D6-31B35ABF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6AAF-CF4A-4244-AAA6-1C53D92090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8ED8-68A8-4789-97F5-D50044235F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EF4E-5033-4F4A-9024-5930005A25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7DFA-049A-4F81-A903-16D3DB9844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C796-1875-4916-AF5B-DF4002868A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DAC1-F68E-4A4F-B473-336CA15538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951A-F2CF-412C-BE9F-E8638AC3A6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6AE0-08B8-4914-B53A-4687015036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3149-BC24-4818-B36C-E16589A6F9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41A5-C38B-4BA6-9686-C9476B6E3C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0001-87BE-494D-9A2E-A3029663B4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C068-115E-4348-947A-F1468DE98B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030D-117F-4AF9-8304-ADB6E0CE0B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EC9D-5929-435A-A503-61558C19FA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19DD-3D2C-41C1-B356-6CD55C0651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1172-92D9-4A7C-9A7E-B624C218CA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24D4-F0E0-41C6-87B2-6DFBBDF809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8739-5ED8-4B45-87EA-CEEEDC23C8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6E12-DDBD-4E9F-9CF6-447BDB1302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8726-EA44-4AFD-8786-EA3C6E1B6F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9B88-B4FC-40D6-A38A-4DD11DA65E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DFF8-F14F-4316-86A7-AAE30946A3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F8D3-F1F1-406D-A459-8F8A1D7ABC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FFAB-09B4-4EA0-B2F2-B0A6F8FE6E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3DF7-FB59-45B7-A184-AEAA6D0AD9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8ABB-BD00-4789-8915-5859F3D716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1B8C-C2A4-42D4-86AA-9D31CBC05B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6DEB-EE7F-4E62-8CA3-80A8B1EDD0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EC60-1957-49BA-9EAF-30203E6963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96A2-E0F7-47A4-B03B-779989BC37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3B64-F481-4930-BC3A-BF97522D7F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7383-D8E9-4879-828D-CA4CF87245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73A0-70D6-4F34-A7B9-84CC6697CF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CAEA-6791-489E-B419-8A750645BB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7C33-B9D7-40E6-A42D-4E5B7DFDFF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3265-FD90-49BD-A22E-F7F9255C84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E2DC-A4EB-4C26-9C6E-5599895759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92CC-CA89-4135-9581-FD3A1DF592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F5F1-8A73-477D-AB9D-7F6AB777C7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BA0E-2FEE-4C85-A1C9-95050D9113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50BF-1D3B-4D98-82D3-0BAFDB9625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9824-445D-4651-B5DD-EEA06737C7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B86C-5C38-49FF-9C05-D6E3C017D7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7047-857E-49BA-8AA6-253E0F9F3A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9713-14B9-4632-B9FB-22CC0E8477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AC5F-0517-4EBE-BFED-0452CC7F99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D70A-8CDD-4ECE-B6D6-07C5BFA60C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6DE1-D627-4630-83EE-E709A4C16A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CA51-18A2-4905-B104-2BCE49CD19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FD30-9D45-4D60-8A01-E185A2EB63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3564000" y="2276640"/>
            <a:ext cx="2085840" cy="69516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1" descr=""/>
          <p:cNvPicPr/>
          <p:nvPr/>
        </p:nvPicPr>
        <p:blipFill>
          <a:blip r:embed="rId2"/>
          <a:stretch/>
        </p:blipFill>
        <p:spPr>
          <a:xfrm>
            <a:off x="1476360" y="3141720"/>
            <a:ext cx="625788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90113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610400" cy="5286600"/>
          </a:xfrm>
          <a:prstGeom prst="rect">
            <a:avLst/>
          </a:prstGeom>
          <a:ln w="0">
            <a:noFill/>
          </a:ln>
        </p:spPr>
      </p:pic>
      <p:sp>
        <p:nvSpPr>
          <p:cNvPr id="1458" name="矩形 90114"/>
          <p:cNvSpPr/>
          <p:nvPr/>
        </p:nvSpPr>
        <p:spPr>
          <a:xfrm>
            <a:off x="3381480" y="1778040"/>
            <a:ext cx="36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90115"/>
          <p:cNvSpPr/>
          <p:nvPr/>
        </p:nvSpPr>
        <p:spPr>
          <a:xfrm>
            <a:off x="6897600" y="4662360"/>
            <a:ext cx="482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90116"/>
          <p:cNvSpPr/>
          <p:nvPr/>
        </p:nvSpPr>
        <p:spPr>
          <a:xfrm>
            <a:off x="3195720" y="5653080"/>
            <a:ext cx="1807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91137" descr=""/>
          <p:cNvPicPr/>
          <p:nvPr/>
        </p:nvPicPr>
        <p:blipFill>
          <a:blip r:embed="rId1"/>
          <a:stretch/>
        </p:blipFill>
        <p:spPr>
          <a:xfrm>
            <a:off x="547560" y="995400"/>
            <a:ext cx="8048880" cy="4867200"/>
          </a:xfrm>
          <a:prstGeom prst="rect">
            <a:avLst/>
          </a:prstGeom>
          <a:ln w="0">
            <a:noFill/>
          </a:ln>
        </p:spPr>
      </p:pic>
      <p:sp>
        <p:nvSpPr>
          <p:cNvPr id="1462" name="矩形 91138"/>
          <p:cNvSpPr/>
          <p:nvPr/>
        </p:nvSpPr>
        <p:spPr>
          <a:xfrm>
            <a:off x="7854840" y="4532400"/>
            <a:ext cx="36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92161" descr=""/>
          <p:cNvPicPr/>
          <p:nvPr/>
        </p:nvPicPr>
        <p:blipFill>
          <a:blip r:embed="rId1"/>
          <a:stretch/>
        </p:blipFill>
        <p:spPr>
          <a:xfrm>
            <a:off x="547560" y="1028880"/>
            <a:ext cx="8048880" cy="4800600"/>
          </a:xfrm>
          <a:prstGeom prst="rect">
            <a:avLst/>
          </a:prstGeom>
          <a:ln w="0">
            <a:noFill/>
          </a:ln>
        </p:spPr>
      </p:pic>
      <p:sp>
        <p:nvSpPr>
          <p:cNvPr id="1464" name="矩形 92162"/>
          <p:cNvSpPr/>
          <p:nvPr/>
        </p:nvSpPr>
        <p:spPr>
          <a:xfrm>
            <a:off x="3556080" y="1919160"/>
            <a:ext cx="799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92163"/>
          <p:cNvSpPr/>
          <p:nvPr/>
        </p:nvSpPr>
        <p:spPr>
          <a:xfrm>
            <a:off x="5003640" y="2409840"/>
            <a:ext cx="1440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92164"/>
          <p:cNvSpPr/>
          <p:nvPr/>
        </p:nvSpPr>
        <p:spPr>
          <a:xfrm>
            <a:off x="1547640" y="4292640"/>
            <a:ext cx="1584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92165"/>
          <p:cNvSpPr/>
          <p:nvPr/>
        </p:nvSpPr>
        <p:spPr>
          <a:xfrm>
            <a:off x="1319040" y="5316480"/>
            <a:ext cx="8766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图片 93185" descr=""/>
          <p:cNvPicPr/>
          <p:nvPr/>
        </p:nvPicPr>
        <p:blipFill>
          <a:blip r:embed="rId1"/>
          <a:stretch/>
        </p:blipFill>
        <p:spPr>
          <a:xfrm>
            <a:off x="824040" y="2057400"/>
            <a:ext cx="7495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94209" descr=""/>
          <p:cNvPicPr/>
          <p:nvPr/>
        </p:nvPicPr>
        <p:blipFill>
          <a:blip r:embed="rId1"/>
          <a:stretch/>
        </p:blipFill>
        <p:spPr>
          <a:xfrm>
            <a:off x="533520" y="1514520"/>
            <a:ext cx="80769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图片 95233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5857920" cy="2638440"/>
          </a:xfrm>
          <a:prstGeom prst="rect">
            <a:avLst/>
          </a:prstGeom>
          <a:ln w="0">
            <a:noFill/>
          </a:ln>
        </p:spPr>
      </p:pic>
      <p:pic>
        <p:nvPicPr>
          <p:cNvPr id="1471" name="图片 95234" descr=""/>
          <p:cNvPicPr/>
          <p:nvPr/>
        </p:nvPicPr>
        <p:blipFill>
          <a:blip r:embed="rId2"/>
          <a:stretch/>
        </p:blipFill>
        <p:spPr>
          <a:xfrm>
            <a:off x="250920" y="3573360"/>
            <a:ext cx="8039160" cy="1866960"/>
          </a:xfrm>
          <a:prstGeom prst="rect">
            <a:avLst/>
          </a:prstGeom>
          <a:ln w="0">
            <a:noFill/>
          </a:ln>
        </p:spPr>
      </p:pic>
      <p:pic>
        <p:nvPicPr>
          <p:cNvPr id="1472" name="图片 95235" descr=""/>
          <p:cNvPicPr/>
          <p:nvPr/>
        </p:nvPicPr>
        <p:blipFill>
          <a:blip r:embed="rId3"/>
          <a:stretch/>
        </p:blipFill>
        <p:spPr>
          <a:xfrm>
            <a:off x="838080" y="5452920"/>
            <a:ext cx="4372200" cy="438120"/>
          </a:xfrm>
          <a:prstGeom prst="rect">
            <a:avLst/>
          </a:prstGeom>
          <a:ln w="0">
            <a:noFill/>
          </a:ln>
        </p:spPr>
      </p:pic>
      <p:sp>
        <p:nvSpPr>
          <p:cNvPr id="1473" name="矩形 95236"/>
          <p:cNvSpPr/>
          <p:nvPr/>
        </p:nvSpPr>
        <p:spPr>
          <a:xfrm>
            <a:off x="909720" y="917640"/>
            <a:ext cx="3014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95237"/>
          <p:cNvSpPr/>
          <p:nvPr/>
        </p:nvSpPr>
        <p:spPr>
          <a:xfrm>
            <a:off x="866880" y="1484280"/>
            <a:ext cx="5792760" cy="801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95238"/>
          <p:cNvSpPr/>
          <p:nvPr/>
        </p:nvSpPr>
        <p:spPr>
          <a:xfrm>
            <a:off x="768240" y="2421000"/>
            <a:ext cx="5792760" cy="104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96257" descr=""/>
          <p:cNvPicPr/>
          <p:nvPr/>
        </p:nvPicPr>
        <p:blipFill>
          <a:blip r:embed="rId1"/>
          <a:stretch/>
        </p:blipFill>
        <p:spPr>
          <a:xfrm>
            <a:off x="852480" y="1243080"/>
            <a:ext cx="7439040" cy="4371840"/>
          </a:xfrm>
          <a:prstGeom prst="rect">
            <a:avLst/>
          </a:prstGeom>
          <a:ln w="0">
            <a:noFill/>
          </a:ln>
        </p:spPr>
      </p:pic>
      <p:sp>
        <p:nvSpPr>
          <p:cNvPr id="1477" name="矩形 96258"/>
          <p:cNvSpPr/>
          <p:nvPr/>
        </p:nvSpPr>
        <p:spPr>
          <a:xfrm>
            <a:off x="890640" y="2666880"/>
            <a:ext cx="3321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96259"/>
          <p:cNvSpPr/>
          <p:nvPr/>
        </p:nvSpPr>
        <p:spPr>
          <a:xfrm>
            <a:off x="928800" y="3213000"/>
            <a:ext cx="5659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96260"/>
          <p:cNvSpPr/>
          <p:nvPr/>
        </p:nvSpPr>
        <p:spPr>
          <a:xfrm>
            <a:off x="890640" y="4089240"/>
            <a:ext cx="5659560" cy="419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96261"/>
          <p:cNvSpPr/>
          <p:nvPr/>
        </p:nvSpPr>
        <p:spPr>
          <a:xfrm>
            <a:off x="941400" y="4572000"/>
            <a:ext cx="629460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96262"/>
          <p:cNvSpPr/>
          <p:nvPr/>
        </p:nvSpPr>
        <p:spPr>
          <a:xfrm>
            <a:off x="915840" y="5105520"/>
            <a:ext cx="629460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图片 97281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115120" cy="4476600"/>
          </a:xfrm>
          <a:prstGeom prst="rect">
            <a:avLst/>
          </a:prstGeom>
          <a:ln w="0">
            <a:noFill/>
          </a:ln>
        </p:spPr>
      </p:pic>
      <p:pic>
        <p:nvPicPr>
          <p:cNvPr id="1483" name="图片 97283" descr=""/>
          <p:cNvPicPr/>
          <p:nvPr/>
        </p:nvPicPr>
        <p:blipFill>
          <a:blip r:embed="rId2"/>
          <a:stretch/>
        </p:blipFill>
        <p:spPr>
          <a:xfrm>
            <a:off x="611280" y="5300640"/>
            <a:ext cx="8057880" cy="1324080"/>
          </a:xfrm>
          <a:prstGeom prst="rect">
            <a:avLst/>
          </a:prstGeom>
          <a:ln w="0">
            <a:noFill/>
          </a:ln>
        </p:spPr>
      </p:pic>
      <p:sp>
        <p:nvSpPr>
          <p:cNvPr id="1484" name="矩形 97284"/>
          <p:cNvSpPr/>
          <p:nvPr/>
        </p:nvSpPr>
        <p:spPr>
          <a:xfrm>
            <a:off x="7862760" y="2997360"/>
            <a:ext cx="36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图片 98306" descr=""/>
          <p:cNvPicPr/>
          <p:nvPr/>
        </p:nvPicPr>
        <p:blipFill>
          <a:blip r:embed="rId1"/>
          <a:stretch/>
        </p:blipFill>
        <p:spPr>
          <a:xfrm>
            <a:off x="509760" y="752400"/>
            <a:ext cx="8124480" cy="5353200"/>
          </a:xfrm>
          <a:prstGeom prst="rect">
            <a:avLst/>
          </a:prstGeom>
          <a:ln w="0">
            <a:noFill/>
          </a:ln>
        </p:spPr>
      </p:pic>
      <p:sp>
        <p:nvSpPr>
          <p:cNvPr id="1486" name="矩形 98307"/>
          <p:cNvSpPr/>
          <p:nvPr/>
        </p:nvSpPr>
        <p:spPr>
          <a:xfrm>
            <a:off x="7888320" y="2768760"/>
            <a:ext cx="36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图片 99329" descr=""/>
          <p:cNvPicPr/>
          <p:nvPr/>
        </p:nvPicPr>
        <p:blipFill>
          <a:blip r:embed="rId1"/>
          <a:stretch/>
        </p:blipFill>
        <p:spPr>
          <a:xfrm>
            <a:off x="507960" y="739800"/>
            <a:ext cx="8115480" cy="5897520"/>
          </a:xfrm>
          <a:prstGeom prst="rect">
            <a:avLst/>
          </a:prstGeom>
          <a:ln w="0">
            <a:noFill/>
          </a:ln>
        </p:spPr>
      </p:pic>
      <p:sp>
        <p:nvSpPr>
          <p:cNvPr id="1488" name="矩形 99330"/>
          <p:cNvSpPr/>
          <p:nvPr/>
        </p:nvSpPr>
        <p:spPr>
          <a:xfrm>
            <a:off x="1411200" y="2158920"/>
            <a:ext cx="1648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99331"/>
          <p:cNvSpPr/>
          <p:nvPr/>
        </p:nvSpPr>
        <p:spPr>
          <a:xfrm>
            <a:off x="2706840" y="3073320"/>
            <a:ext cx="928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99332"/>
          <p:cNvSpPr/>
          <p:nvPr/>
        </p:nvSpPr>
        <p:spPr>
          <a:xfrm>
            <a:off x="3164040" y="3568680"/>
            <a:ext cx="162396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88066" descr=""/>
          <p:cNvPicPr/>
          <p:nvPr/>
        </p:nvPicPr>
        <p:blipFill>
          <a:blip r:embed="rId1"/>
          <a:stretch/>
        </p:blipFill>
        <p:spPr>
          <a:xfrm>
            <a:off x="558720" y="733320"/>
            <a:ext cx="7962840" cy="5877000"/>
          </a:xfrm>
          <a:prstGeom prst="rect">
            <a:avLst/>
          </a:prstGeom>
          <a:ln w="0">
            <a:noFill/>
          </a:ln>
        </p:spPr>
      </p:pic>
      <p:sp>
        <p:nvSpPr>
          <p:cNvPr id="1435" name="矩形 88067"/>
          <p:cNvSpPr/>
          <p:nvPr/>
        </p:nvSpPr>
        <p:spPr>
          <a:xfrm>
            <a:off x="7812000" y="4292640"/>
            <a:ext cx="36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图片 87041" descr=""/>
          <p:cNvPicPr/>
          <p:nvPr/>
        </p:nvPicPr>
        <p:blipFill>
          <a:blip r:embed="rId1"/>
          <a:stretch/>
        </p:blipFill>
        <p:spPr>
          <a:xfrm>
            <a:off x="566640" y="1809720"/>
            <a:ext cx="8010720" cy="3238560"/>
          </a:xfrm>
          <a:prstGeom prst="rect">
            <a:avLst/>
          </a:prstGeom>
          <a:ln w="0">
            <a:noFill/>
          </a:ln>
        </p:spPr>
      </p:pic>
      <p:sp>
        <p:nvSpPr>
          <p:cNvPr id="1437" name="矩形 87042"/>
          <p:cNvSpPr/>
          <p:nvPr/>
        </p:nvSpPr>
        <p:spPr>
          <a:xfrm>
            <a:off x="6908760" y="2224080"/>
            <a:ext cx="7588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87043"/>
          <p:cNvSpPr/>
          <p:nvPr/>
        </p:nvSpPr>
        <p:spPr>
          <a:xfrm>
            <a:off x="6276960" y="3627360"/>
            <a:ext cx="8161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87044"/>
          <p:cNvSpPr/>
          <p:nvPr/>
        </p:nvSpPr>
        <p:spPr>
          <a:xfrm>
            <a:off x="5329080" y="4149720"/>
            <a:ext cx="8161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图片 86017" descr=""/>
          <p:cNvPicPr/>
          <p:nvPr/>
        </p:nvPicPr>
        <p:blipFill>
          <a:blip r:embed="rId1"/>
          <a:stretch/>
        </p:blipFill>
        <p:spPr>
          <a:xfrm>
            <a:off x="509760" y="831960"/>
            <a:ext cx="8038800" cy="5172120"/>
          </a:xfrm>
          <a:prstGeom prst="rect">
            <a:avLst/>
          </a:prstGeom>
          <a:ln w="0">
            <a:noFill/>
          </a:ln>
        </p:spPr>
      </p:pic>
      <p:sp>
        <p:nvSpPr>
          <p:cNvPr id="1441" name="矩形 86018"/>
          <p:cNvSpPr/>
          <p:nvPr/>
        </p:nvSpPr>
        <p:spPr>
          <a:xfrm>
            <a:off x="4830840" y="4554360"/>
            <a:ext cx="16128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86019"/>
          <p:cNvSpPr/>
          <p:nvPr/>
        </p:nvSpPr>
        <p:spPr>
          <a:xfrm>
            <a:off x="4591080" y="5479920"/>
            <a:ext cx="8445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3" name="图片 84993" descr=""/>
          <p:cNvPicPr/>
          <p:nvPr/>
        </p:nvPicPr>
        <p:blipFill>
          <a:blip r:embed="rId1"/>
          <a:stretch/>
        </p:blipFill>
        <p:spPr>
          <a:xfrm>
            <a:off x="557280" y="1295280"/>
            <a:ext cx="8029440" cy="4267440"/>
          </a:xfrm>
          <a:prstGeom prst="rect">
            <a:avLst/>
          </a:prstGeom>
          <a:ln w="0">
            <a:noFill/>
          </a:ln>
        </p:spPr>
      </p:pic>
      <p:sp>
        <p:nvSpPr>
          <p:cNvPr id="1444" name="矩形 84994"/>
          <p:cNvSpPr/>
          <p:nvPr/>
        </p:nvSpPr>
        <p:spPr>
          <a:xfrm>
            <a:off x="7812000" y="4684680"/>
            <a:ext cx="36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83969" descr=""/>
          <p:cNvPicPr/>
          <p:nvPr/>
        </p:nvPicPr>
        <p:blipFill>
          <a:blip r:embed="rId1"/>
          <a:stretch/>
        </p:blipFill>
        <p:spPr>
          <a:xfrm>
            <a:off x="446040" y="1406520"/>
            <a:ext cx="8001000" cy="3247920"/>
          </a:xfrm>
          <a:prstGeom prst="rect">
            <a:avLst/>
          </a:prstGeom>
          <a:ln w="0">
            <a:noFill/>
          </a:ln>
        </p:spPr>
      </p:pic>
      <p:pic>
        <p:nvPicPr>
          <p:cNvPr id="1446" name="图片 83970" descr=""/>
          <p:cNvPicPr/>
          <p:nvPr/>
        </p:nvPicPr>
        <p:blipFill>
          <a:blip r:embed="rId2"/>
          <a:stretch/>
        </p:blipFill>
        <p:spPr>
          <a:xfrm>
            <a:off x="814320" y="4807080"/>
            <a:ext cx="5962680" cy="904680"/>
          </a:xfrm>
          <a:prstGeom prst="rect">
            <a:avLst/>
          </a:prstGeom>
          <a:ln w="0">
            <a:noFill/>
          </a:ln>
        </p:spPr>
      </p:pic>
      <p:sp>
        <p:nvSpPr>
          <p:cNvPr id="1447" name="矩形 83971"/>
          <p:cNvSpPr/>
          <p:nvPr/>
        </p:nvSpPr>
        <p:spPr>
          <a:xfrm>
            <a:off x="4199040" y="2376360"/>
            <a:ext cx="36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82945" descr=""/>
          <p:cNvPicPr/>
          <p:nvPr/>
        </p:nvPicPr>
        <p:blipFill>
          <a:blip r:embed="rId1"/>
          <a:stretch/>
        </p:blipFill>
        <p:spPr>
          <a:xfrm>
            <a:off x="528480" y="828720"/>
            <a:ext cx="8087040" cy="5200560"/>
          </a:xfrm>
          <a:prstGeom prst="rect">
            <a:avLst/>
          </a:prstGeom>
          <a:ln w="0">
            <a:noFill/>
          </a:ln>
        </p:spPr>
      </p:pic>
      <p:sp>
        <p:nvSpPr>
          <p:cNvPr id="1449" name="矩形 82946"/>
          <p:cNvSpPr/>
          <p:nvPr/>
        </p:nvSpPr>
        <p:spPr>
          <a:xfrm>
            <a:off x="7854840" y="4608360"/>
            <a:ext cx="36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81921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086680" cy="5810400"/>
          </a:xfrm>
          <a:prstGeom prst="rect">
            <a:avLst/>
          </a:prstGeom>
          <a:ln w="0">
            <a:noFill/>
          </a:ln>
        </p:spPr>
      </p:pic>
      <p:sp>
        <p:nvSpPr>
          <p:cNvPr id="1451" name="矩形 81923"/>
          <p:cNvSpPr/>
          <p:nvPr/>
        </p:nvSpPr>
        <p:spPr>
          <a:xfrm>
            <a:off x="6418440" y="1168560"/>
            <a:ext cx="8175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81924"/>
          <p:cNvSpPr/>
          <p:nvPr/>
        </p:nvSpPr>
        <p:spPr>
          <a:xfrm>
            <a:off x="1247760" y="1657440"/>
            <a:ext cx="8175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81925"/>
          <p:cNvSpPr/>
          <p:nvPr/>
        </p:nvSpPr>
        <p:spPr>
          <a:xfrm>
            <a:off x="6232680" y="2637000"/>
            <a:ext cx="8175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81926"/>
          <p:cNvSpPr/>
          <p:nvPr/>
        </p:nvSpPr>
        <p:spPr>
          <a:xfrm>
            <a:off x="2521080" y="3114720"/>
            <a:ext cx="4665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81927"/>
          <p:cNvSpPr/>
          <p:nvPr/>
        </p:nvSpPr>
        <p:spPr>
          <a:xfrm>
            <a:off x="6068880" y="3141720"/>
            <a:ext cx="87948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图片 89089" descr=""/>
          <p:cNvPicPr/>
          <p:nvPr/>
        </p:nvPicPr>
        <p:blipFill>
          <a:blip r:embed="rId1"/>
          <a:stretch/>
        </p:blipFill>
        <p:spPr>
          <a:xfrm>
            <a:off x="585720" y="1057320"/>
            <a:ext cx="79725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56:24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